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6000"/>
          </a:blip>
          <a:srcRect l="3128" t="0" r="69794" b="0"/>
          <a:stretch/>
        </p:blipFill>
        <p:spPr>
          <a:xfrm>
            <a:off x="0" y="0"/>
            <a:ext cx="1371600" cy="685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contrast="6000"/>
          </a:blip>
          <a:srcRect l="69794" t="0" r="3128" b="0"/>
          <a:stretch/>
        </p:blipFill>
        <p:spPr>
          <a:xfrm>
            <a:off x="7848720" y="0"/>
            <a:ext cx="1295280" cy="685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752480" y="609480"/>
            <a:ext cx="5639040" cy="198144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The French &amp; Indian War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(1756  to 1763)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057400" y="3467160"/>
            <a:ext cx="5181480" cy="7999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99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“</a:t>
            </a:r>
            <a:r>
              <a:rPr b="0" lang="en-US" sz="2400" spc="1" strike="noStrike">
                <a:ln w="19080">
                  <a:solidFill>
                    <a:srgbClr val="003399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The Great War for Empire”</a:t>
            </a:r>
            <a:endParaRPr b="0" lang="en-US" sz="2400" spc="1" strike="noStrike">
              <a:ln w="19080">
                <a:solidFill>
                  <a:srgbClr val="003399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14600" y="5410080"/>
            <a:ext cx="4343400" cy="83844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By:  Ms. Susan M. Pojer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Horace Greeley HS   Chappaqua, NY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278400"/>
            <a:ext cx="70866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*</a:t>
            </a:r>
            <a:r>
              <a:rPr b="1" lang="en-US" sz="2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By 1761, Sp. has become an ally of F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743200" y="1371600"/>
            <a:ext cx="3697200" cy="4876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1447920" y="0"/>
            <a:ext cx="632448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1758-1761 </a:t>
            </a:r>
            <a:r>
              <a:rPr b="1" lang="en-US" sz="3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 The Tide Turns for Englan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1676520"/>
            <a:ext cx="6629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France --&gt;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st her Canadian possessions, most of her empire in India, and claim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lands east of the Mississippi 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246480"/>
            <a:ext cx="6400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Comic Sans MS"/>
              </a:rPr>
              <a:t>Spain --&gt;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t all French lands west of the Mississippi River, New Orleans, but lost Florida to Eng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4772160"/>
            <a:ext cx="6476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ngland --&gt;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t all French lands in Canada, exclusive rights to Caribbean slave trade, and commercial dominan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In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28600"/>
            <a:ext cx="632448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1763 </a:t>
            </a:r>
            <a:r>
              <a:rPr b="1" lang="en-US" sz="4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Treaty of Par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867280" cy="54673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447920" y="152280"/>
            <a:ext cx="632448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North America in 176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3880" y="1828800"/>
            <a:ext cx="63248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It increased her colonial empire in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the Americ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3124080"/>
            <a:ext cx="6172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It greatly enlarged England’s deb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4114800"/>
            <a:ext cx="58676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Britain’s contempt for the colonials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created bitter feeling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5486400"/>
            <a:ext cx="647712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Therefore, England felt that a</a:t>
            </a:r>
            <a:br>
              <a:rPr sz="2300"/>
            </a:br>
            <a:r>
              <a:rPr b="1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major reorganization of her </a:t>
            </a:r>
            <a:br>
              <a:rPr sz="2300"/>
            </a:br>
            <a:r>
              <a:rPr b="1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American Empire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was necessary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2860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Effects of the War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on Brita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76520" y="1828800"/>
            <a:ext cx="6324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 united them against 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common enemy for the fir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351240"/>
            <a:ext cx="6172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It created a socializ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experience for all 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colonials who particip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951440"/>
            <a:ext cx="5790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It created bitter feeling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towards the British tha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would only intens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2860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Effects of the War on the American Colon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52480" y="1981080"/>
            <a:ext cx="5943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1763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ntiac’s Rebe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12880" y="3048120"/>
            <a:ext cx="2173320" cy="24066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191120" y="3305160"/>
            <a:ext cx="3429000" cy="14954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495680" y="4800600"/>
            <a:ext cx="304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t Det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571500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itish “gifts” of smallpox-infected blankets from Fort Pi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28600"/>
            <a:ext cx="632448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The Aftermath:  Tensions Along the Fronti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257800" cy="52578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1295280" y="228600"/>
            <a:ext cx="6629400" cy="67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Pontiac’s Rebellion (1763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76520" y="106668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ritis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clam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Line of 176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5943600"/>
            <a:ext cx="563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olonial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xton Boys (P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498" t="6647" r="2498" b="6647"/>
          <a:stretch/>
        </p:blipFill>
        <p:spPr>
          <a:xfrm>
            <a:off x="1676520" y="2286000"/>
            <a:ext cx="5790960" cy="3352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257800" y="2057400"/>
            <a:ext cx="304920" cy="1523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2133720"/>
            <a:ext cx="83808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152280"/>
            <a:ext cx="6324480" cy="7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Rockwell"/>
              </a:rPr>
              <a:t>BACKLAS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76520" y="1247760"/>
            <a:ext cx="58388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Br. Gvt. measures to prevent smuggl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774880"/>
            <a:ext cx="510552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68120" indent="-168120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James Otis’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rotection of a citizen’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private property must b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held in higher regard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an a parliamentary  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tatu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241720"/>
            <a:ext cx="57150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761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writs of assist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5346720"/>
            <a:ext cx="51814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51000" indent="-351000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e lost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parliamentary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aw and custom had equal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e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28600"/>
            <a:ext cx="6324480" cy="67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Rethinking Their Empi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05120" y="2133720"/>
            <a:ext cx="5181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Sugar Act - 17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230640"/>
            <a:ext cx="5638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Currency Act - 17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5410080"/>
            <a:ext cx="5943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Stamp Act - 17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4297320"/>
            <a:ext cx="6019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Quartering Act - 17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2860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George Grenville’s Program, 1763-176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905120" y="1219320"/>
            <a:ext cx="5486400" cy="42670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3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3366"/>
                  </a:outerShdw>
                </a:effectLst>
                <a:latin typeface="Hot Pizza"/>
              </a:rPr>
              <a:t>Was 1763 </a:t>
            </a:r>
            <a:endParaRPr b="0" lang="en-US" sz="2400" spc="1" strike="noStrike">
              <a:ln w="19080">
                <a:solidFill>
                  <a:srgbClr val="fffff3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3366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3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3366"/>
                  </a:outerShdw>
                </a:effectLst>
                <a:latin typeface="Hot Pizza"/>
              </a:rPr>
              <a:t>a "turning point" </a:t>
            </a:r>
            <a:endParaRPr b="0" lang="en-US" sz="2400" spc="1" strike="noStrike">
              <a:ln w="19080">
                <a:solidFill>
                  <a:srgbClr val="fffff3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3366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3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3366"/>
                  </a:outerShdw>
                </a:effectLst>
                <a:latin typeface="Hot Pizza"/>
              </a:rPr>
              <a:t>in British-colonial</a:t>
            </a:r>
            <a:endParaRPr b="0" lang="en-US" sz="2400" spc="1" strike="noStrike">
              <a:ln w="19080">
                <a:solidFill>
                  <a:srgbClr val="fffff3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3366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3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3366"/>
                  </a:outerShdw>
                </a:effectLst>
                <a:latin typeface="Hot Pizza"/>
              </a:rPr>
              <a:t>relationships???</a:t>
            </a:r>
            <a:endParaRPr b="0" lang="en-US" sz="2400" spc="1" strike="noStrike">
              <a:ln w="19080">
                <a:solidFill>
                  <a:srgbClr val="fffff3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3366"/>
                </a:outerShdw>
              </a:effectLst>
              <a:latin typeface="Hot Pizza"/>
              <a:ea typeface="Hot Pizz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169056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al Whi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2482920"/>
            <a:ext cx="71629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Q-&gt;</a:t>
            </a:r>
            <a:r>
              <a:rPr b="1" lang="en-US" sz="23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hat was the extent of Parliament’s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authority over the colonies?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124080" y="3457440"/>
            <a:ext cx="914400" cy="457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3457440"/>
            <a:ext cx="838080" cy="457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914640"/>
            <a:ext cx="20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Absolute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3914640"/>
            <a:ext cx="3733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OR       </a:t>
            </a: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Limited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4829040"/>
            <a:ext cx="609588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Q-&gt;</a:t>
            </a:r>
            <a:r>
              <a:rPr b="1" lang="en-US" sz="23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How could the colonies give or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withhold consent for parliamentary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legislation when they did not have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representation in that body?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7632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Theories of Re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05120" y="1143000"/>
            <a:ext cx="4419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Loyal Nine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17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1995480"/>
            <a:ext cx="601956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ons of Libert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gan in NYC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muel                                                              Ad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>
            <a:lum contrast="6000"/>
          </a:blip>
          <a:srcRect l="2862" t="3070" r="5710" b="29511"/>
          <a:stretch/>
        </p:blipFill>
        <p:spPr>
          <a:xfrm>
            <a:off x="3733920" y="2814480"/>
            <a:ext cx="2666880" cy="18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1828800" y="4861080"/>
            <a:ext cx="601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tamp Act Congress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– 1765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mp Act Reso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6049800"/>
            <a:ext cx="4876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eclaratory A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– 17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152280"/>
            <a:ext cx="6324480" cy="7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Rockwell"/>
              </a:rPr>
              <a:t>Stamp Act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1461960"/>
            <a:ext cx="6858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767</a:t>
            </a:r>
            <a:r>
              <a:rPr b="1" lang="en-US" sz="23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William Pitt, P. M. &amp; Charles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     Townshend, Secretary of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     the Exchequer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2666880"/>
            <a:ext cx="601992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333399"/>
              </a:buClr>
              <a:buSzPct val="7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hift from paying taxes for Br. war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debts &amp; quartering of troops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paying col. govt. salari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3886200"/>
            <a:ext cx="60199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333399"/>
              </a:buClr>
              <a:buSzPct val="7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He diverted revenue collection from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internal to  external trad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64008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333399"/>
              </a:buClr>
              <a:buSzPct val="7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Tax these imports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paper, paint,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                      lead, glass, te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5562720"/>
            <a:ext cx="601992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333399"/>
              </a:buClr>
              <a:buSzPct val="7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crease custom officials at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American ports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established a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Board of Customs in Bosto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Townshend Duties Crisis:  1767-17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14600" y="1523880"/>
            <a:ext cx="71485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John Dickinson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1768</a:t>
            </a:r>
            <a:br>
              <a:rPr sz="2600"/>
            </a:br>
            <a:r>
              <a:rPr b="1" lang="en-US" sz="2600" spc="-1" strike="noStrike">
                <a:solidFill>
                  <a:srgbClr val="808080"/>
                </a:solidFill>
                <a:latin typeface="Comic Sans MS"/>
              </a:rPr>
              <a:t>        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26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etters from a Farmer in</a:t>
            </a:r>
            <a:br>
              <a:rPr sz="2600"/>
            </a:b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          Pennsylvania</a:t>
            </a: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2895480"/>
            <a:ext cx="6095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1768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2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non-importation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    movemen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“Daughters of Liberty”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spinning b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632480"/>
            <a:ext cx="609588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Riots against customs agents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John Hancock’s ship, th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Libert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4000 British troops sen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to Bost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7632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Colonial Response to the Townshend Du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8120" y="5715000"/>
            <a:ext cx="2895480" cy="7621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patriots!"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600200" y="609480"/>
            <a:ext cx="6095880" cy="46483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Hot Pizza"/>
              </a:rPr>
              <a:t>For the first time, 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Hot Pizza"/>
              </a:rPr>
              <a:t>many colonists began calling people 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Hot Pizza"/>
              </a:rPr>
              <a:t>who joined the non-importation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Hot Pizza"/>
              </a:rPr>
              <a:t>movement, 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Hot Pizza"/>
              <a:ea typeface="Hot Pizza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0200" y="1114560"/>
            <a:ext cx="6019920" cy="55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676520" y="228600"/>
            <a:ext cx="601956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North America in 17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5191200"/>
            <a:ext cx="14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Brit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519120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Fr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5419800"/>
            <a:ext cx="68580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571640" y="5419800"/>
            <a:ext cx="68580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38680" y="5038560"/>
            <a:ext cx="733320" cy="828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14400" y="5699160"/>
            <a:ext cx="68580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rt Necessity                Fort Duquesn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George Washington      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Delaware &amp; Shawne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Ind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02080" y="1219320"/>
            <a:ext cx="268452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371600" y="2286000"/>
            <a:ext cx="2819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hio Val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2819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228600"/>
            <a:ext cx="601956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1754 </a:t>
            </a:r>
            <a:r>
              <a:rPr b="1" lang="en-US" sz="4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The First Cl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3880" y="1600200"/>
            <a:ext cx="632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n Frankli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representatives fro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New England, NY, MD, 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contrast="18000"/>
          </a:blip>
          <a:srcRect l="4163" t="3024" r="2087" b="3395"/>
          <a:stretch/>
        </p:blipFill>
        <p:spPr>
          <a:xfrm>
            <a:off x="2743200" y="2666880"/>
            <a:ext cx="3429000" cy="2362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71600" y="5181480"/>
            <a:ext cx="6477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Albany Congres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failed Iroquo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    broke off relations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    Britain &amp; threatened 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    trade with the Fre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152280"/>
            <a:ext cx="624852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1754 </a:t>
            </a:r>
            <a:r>
              <a:rPr b="1" lang="en-US" sz="4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Albany Plan of Un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76520" y="2225520"/>
            <a:ext cx="6095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Gen. Edward Braddock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evict th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rench from the OH Valley &amp; Canada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(Newfoundland &amp; Nova Scoti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276720"/>
            <a:ext cx="5715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ttacks OH Valley, Mohawk Valley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&amp; Acad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114800"/>
            <a:ext cx="5715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Killed 10 mi. from Ft. Duquesne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by 1500 French and Indian for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181480"/>
            <a:ext cx="56386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Only Br. Success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expelled Franc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                  from Louisian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5729400"/>
            <a:ext cx="0" cy="380880"/>
          </a:xfrm>
          <a:prstGeom prst="line">
            <a:avLst/>
          </a:prstGeom>
          <a:ln w="28440">
            <a:solidFill>
              <a:srgbClr val="3333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618660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AJ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152280"/>
            <a:ext cx="6324480" cy="19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1755 </a:t>
            </a:r>
            <a:r>
              <a:rPr b="1" lang="en-US" sz="4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Br. Decides to Eliminate Fr. Presence in No. Am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441972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tive American tribe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oited both side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2743200"/>
            <a:ext cx="1905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ord </a:t>
            </a:r>
            <a:br>
              <a:rPr sz="2600"/>
            </a:b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oudou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2828880"/>
            <a:ext cx="26672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Marquis 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de Montcal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3114720"/>
            <a:ext cx="457200" cy="9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181480" y="3123360"/>
            <a:ext cx="533520" cy="9720"/>
          </a:xfrm>
          <a:prstGeom prst="line">
            <a:avLst/>
          </a:prstGeom>
          <a:ln w="28440">
            <a:solidFill>
              <a:srgbClr val="0033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1079280" cy="1219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47920" y="22860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1756 </a:t>
            </a:r>
            <a:r>
              <a:rPr b="1" lang="en-US" sz="4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War Is Formally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  Declare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638680" y="1752480"/>
          <a:ext cx="1600200" cy="76212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7657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</a:rPr>
                        <a:t>Brit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5257800" y="228600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arch in formation or 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bayonet char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971800"/>
            <a:ext cx="3048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r. officers wanted to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take charge of colonia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5257800"/>
            <a:ext cx="2438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Prima Donna Br. 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officers with servants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&amp; tea settin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3733920"/>
            <a:ext cx="2971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rills &amp; tough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discipl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4495680"/>
            <a:ext cx="2971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olonists should pay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for their own defen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2286000"/>
            <a:ext cx="289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ndian-style guerilla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tact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297180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ol. militias served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 under own captai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373392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o mil. deference or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 protocols ob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9568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Resistance to rising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 ta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525780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asual, 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 non-professiona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2286000"/>
            <a:ext cx="152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hods of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ht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297180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itar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3733920"/>
            <a:ext cx="152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itar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ipli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49568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525780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ean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2860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British-American Colonial Ten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90920" y="1752480"/>
          <a:ext cx="3047760" cy="69696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6984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Colon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3880" y="2057400"/>
            <a:ext cx="685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 understood colonial conc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743200"/>
            <a:ext cx="624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 offered them a comprom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33526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ol. loyalty &amp; mil. cooperation--&gt;Br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would reimburse col. assemblies fo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their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4648320"/>
            <a:ext cx="624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rd Loudoun would be remo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5654520"/>
            <a:ext cx="571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RESULTS?</a:t>
            </a: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olonial mora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increased by 175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28600"/>
            <a:ext cx="67057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1757 </a:t>
            </a:r>
            <a:r>
              <a:rPr b="1" lang="en-US" sz="3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 William Pitt Becomes Foreign Minist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06:17:19Z</dcterms:created>
  <dc:creator>Susan M. Pojer</dc:creator>
  <dc:description/>
  <dc:language>en-US</dc:language>
  <cp:lastModifiedBy>Susan</cp:lastModifiedBy>
  <cp:lastPrinted>2007-08-10T05:31:50Z</cp:lastPrinted>
  <dcterms:modified xsi:type="dcterms:W3CDTF">2007-08-10T05:32:10Z</dcterms:modified>
  <cp:revision>83</cp:revision>
  <dc:subject/>
  <dc:title>The French-Indian War</dc:title>
</cp:coreProperties>
</file>